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34CF-3537-4FCF-A129-54FD525FD5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tructure and Method of Inv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tructure and Method of Inv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para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o type of cells the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omylelitis virus attacks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patitis virus attacks liv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ir only true characteristic of be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smaller than bacteria (20-3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para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o type of cells the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omylelitis virus attacks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patitis virus attacks liv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ir only true characteristic of be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smaller than bacteria (20-3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RNA (retro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ounded by protective protein coat (cap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material carries information for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acks biochemical machinery of host cell to carry these processes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RNA (retro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ounded by protective protein coat (cap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material carries information for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acks biochemical machinery of host cell to carry these processes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of a cell by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can lie dormant for many years until it comes into contact with a suitable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s with molecules on surface of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ole virus enter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DNA injected via hollow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of a cell by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can lie dormant for many years until it comes into contact with a suitable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s with molecules on surface of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ole virus enter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DNA injected via hollow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ation of Cell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takes control of cell machin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s on hos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upply of free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suppresses cell’s normal nucleic acid replication and 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factures many identical copies of viral nucleic acid and protein c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ation of Cell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takes control of cell machin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s on hos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upply of free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suppresses cell’s normal nucleic acid replication and 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factures many identical copies of viral nucleic acid and protein c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iral particles become assembled and become relea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nucleic acid used to synthesise lysis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ursting of host cell to release viral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s contaning viru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iral particles become assembled and become relea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nucleic acid used to synthesise lysis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ursting of host cell to release viral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s contaning viru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DNA to transcribe into m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injected into cell by virus with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enzyme reverses normal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viral DNA from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Virus uses DNA to re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DNA to transcribe into m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injected into cell by virus with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enzyme reverses normal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viral DNA from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Virus uses DNA to re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F90-644A-4B05-B9E6-364A9E48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EEC-0448-41AB-AA37-14CFE708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B94-5FBC-4498-B779-46A7122E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3FD4-8D24-47EF-9E2B-33976DFF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A3B7-5873-41FA-979B-2A9262F0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AEE2-0AEA-48C3-BA8B-3D8888C1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1D2-28A4-43F7-A803-237761EF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D769-7463-40B1-AE2D-1918C738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45B-9DEF-41A8-B214-E3EB03D7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DDF-BE64-4637-A76C-B27B2413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9412-66A4-43FF-9BD4-8F1AAF2A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E0C-6917-4E45-B637-E9085FCA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6F50-9041-48AD-B0BF-291072B14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irus Structure and Method of Inva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oduction to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bligate para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cific to type of cells they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oliomylelit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virus attack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erv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epatit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virus attack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v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producti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ir only true characteristic of being a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ch smaller than bacteria (20-300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ir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t a c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NA or RNA (retrovir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rounded by protective protein coat 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aps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 material carries information for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jacks biochemical machinery of host cell to carry these processes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int6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365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324000" y="3213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C"/>
              </a:rPr>
              <a:t>Bacterioph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HIV-Structure"/>
          <p:cNvPicPr/>
          <p:nvPr/>
        </p:nvPicPr>
        <p:blipFill>
          <a:blip r:embed="rId2"/>
          <a:stretch/>
        </p:blipFill>
        <p:spPr>
          <a:xfrm>
            <a:off x="2340000" y="3743280"/>
            <a:ext cx="3851280" cy="311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structure%20of%20bacteriophage"/>
          <p:cNvPicPr/>
          <p:nvPr/>
        </p:nvPicPr>
        <p:blipFill>
          <a:blip r:embed="rId3"/>
          <a:stretch/>
        </p:blipFill>
        <p:spPr>
          <a:xfrm>
            <a:off x="0" y="0"/>
            <a:ext cx="3087720" cy="31417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vasion of a cell by 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irus can lie dormant for many years until it comes into contact with a suitable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nds with molecules on surface of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r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whole virus enters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acteriop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viral DNA injected via hollow 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teration of Cell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 takes control of cell machin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pends on host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supply of free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 suppresses cell’s normal nucleic acid replication and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ufactures many identical copies of viral nucleic acid and protein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viral particles become assembled and become releas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viral nucleic acid used to synthesis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ysis 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bursting of host cell to release viral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Bud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ning virus are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7"/>
          <p:cNvGrpSpPr/>
          <p:nvPr/>
        </p:nvGrpSpPr>
        <p:grpSpPr>
          <a:xfrm>
            <a:off x="1276200" y="-922320"/>
            <a:ext cx="5537160" cy="8702640"/>
            <a:chOff x="1276200" y="-922320"/>
            <a:chExt cx="5537160" cy="8702640"/>
          </a:xfrm>
        </p:grpSpPr>
        <p:sp>
          <p:nvSpPr>
            <p:cNvPr id="71" name="Rectangle 4"/>
            <p:cNvSpPr/>
            <p:nvPr/>
          </p:nvSpPr>
          <p:spPr>
            <a:xfrm>
              <a:off x="1276200" y="-92232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5"/>
            <p:cNvSpPr/>
            <p:nvPr/>
          </p:nvSpPr>
          <p:spPr>
            <a:xfrm>
              <a:off x="1276200" y="-922320"/>
              <a:ext cx="5537160" cy="87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52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6" descr="examples_of_viral"/>
          <p:cNvPicPr/>
          <p:nvPr/>
        </p:nvPicPr>
        <p:blipFill>
          <a:blip r:embed="rId1"/>
          <a:srcRect l="0" t="0" r="0" b="38890"/>
          <a:stretch/>
        </p:blipFill>
        <p:spPr>
          <a:xfrm>
            <a:off x="533520" y="0"/>
            <a:ext cx="8076960" cy="62485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tro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ains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DNA to transcribe into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verse transcriptase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jected into cell by virus with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enzyme reverses normal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roduces viral DNA from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Virus uses DNA to rep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9:29:22Z</dcterms:created>
  <dc:creator>hhashmi</dc:creator>
  <dc:description/>
  <dc:language>en-US</dc:language>
  <cp:lastModifiedBy>LEGION2</cp:lastModifiedBy>
  <dcterms:modified xsi:type="dcterms:W3CDTF">2016-01-14T13:20:17Z</dcterms:modified>
  <cp:revision>9</cp:revision>
  <dc:subject/>
  <dc:title>Virus Structure and Method of Invasion</dc:title>
</cp:coreProperties>
</file>